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1EC-4814-4E10-B7D6-BBCA1A0C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42A-75DC-4FBC-A6F4-843A16D0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2B9-C57A-414B-9803-D8EDE864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CC4-E1A7-4E6B-A60E-C08E4D4D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DCE-F2E7-48DE-94FF-059C8B3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F43-EC75-4F0A-8ECE-99F88AC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5FB-9C8A-474F-B4F5-27E671D9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52C-914E-48CE-A16F-EA4D5198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A16-D394-4EEF-B425-BAAB6571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2CB-38CE-43EC-8409-6FA4CA8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E58-EA1A-4FBB-9B59-DF5E15F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E2E-4E7D-40DC-B08D-D9E86912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836764-FE49-4670-830D-3729D3E3F8D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7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exten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2752560"/>
          <a:ext cx="82803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52560"/>
                    <a:ext cx="828036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38160" y="372960"/>
            <a:ext cx="649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v &lt;- fitted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s &lt;- resid(quine.nb7, type = "devia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v &lt;- predict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v, rs, xlab = "fitted values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h = 0, lty = 4, lwd = 2, col =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norm(rs, ylab = "sorted 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line(rs, col = 3, lwd = 2, lty 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2600" y="192240"/>
            <a:ext cx="273816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Diagnostic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209-F296-4D4C-B0CD-53923D4D394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led to the same model as with the transform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big advantage we have with this analysis is that it is on the original scale, so predictions would be dir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agnostic analyses are still useful here, though they are less so with small count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ften the value for theta is not critical.  One alternative to this is to fit the models with a fixed value for theta as ordinary glm’s.  See nex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F8B-F875-4215-817A-2EC8D1A122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xing theta at a constant val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glm1 &lt;- glm(Days ~ Eth * Sex * Lrn * Age, negative.binomial(theta = t0), data = quine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ep &lt;- stepAIC(quine.glm1, k = log(nrow(quine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step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ays ~ Eth + Sex + Lrn + Age + Eth:Sex + Eth:Lrn + Sex:Lrn + Sex:Age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scaled dev.  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9901 201.5854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Age  3 219.6959 216.5812    20.99584 0.00010548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Sex:Lrn  1 211.5179 213.3381    13.75267 0.000208524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are led to the same model.  This is a common occurrence if theta is a reasonable value to us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CDA-F7A7-45C4-9708-5405424E0F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ultinomial models (V&amp;R, p. 199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rrogate Poisson models offer a powerful way of analysing frequency data, even if the distribution is not Poisson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is possible because the multinomial distribution can be viewed as a conditional distribution of independent Poisson variables, given their su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multiply classified frequency data, it is important to separate “response” and “stimulus” classifications (which may change according to viewpoint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only one “response” classification, multinomial models may be fitted directly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F67-88FB-4FC9-B952-F592D7893A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Copenhagen housing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‘stimulus’ classifications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Conta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‘response’ classificaltion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ul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equal probabilities of 1/3 for each satisfaction clas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mplest rea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+Satisfacti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a homogeneity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complex models are tested by their interactions with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A92-F8ED-4299-9311-584F432E94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mogeneity is not adequat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0 &lt;- glm(Freq ~ Infl*Type*Cont, poisson, housing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1 &lt;- update(hous.glm0, .~.+Sa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va(hous.glm0, hous.glm1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(Difference in deviance is 44.65689 on 2 d.f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term(hous.glm1, . ~ . + Sat * (Infl + Type + Cont)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addi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req ~ Infl + Type + Cont + Sat + Infl:Type + Infl:Cont + Type:Cont + Infl:Type:Cont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Df Deviance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&lt;none&gt;    217.4560 269.456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Infl  4 111.0846 171.0846 106.3714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Type  6 156.7872 220.7872  60.6687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Cont  2 212.3301 268.3301   5.1258 0.077080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C02-E936-48FE-BF99-80153D1FD2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using data, cont’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three terms are necessary, but no mo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2 &lt;- update(hous.glm1, .~.+Sat*(Infl+Type+Cont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 find a table of estimated probabilities we need to arrange the fitted values in a table (matrix) and normalize to have row sums un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do we do thi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5B6-8D4B-4231-8D0D-5CD3CF0E00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s &lt;- lapply(housing[, -5], level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lev &lt;- sapply(levs, length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 &lt;- do.call("cbind", lapply(housing[, -5], function(x) match(x, levels(x)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Pr &lt;- array(0, dim = dlev, dimnames = lev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[ind] &lt;- housing$Freq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ts &lt;- rep(apply(RF, 2:4, sum), each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RF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[ind] &lt;- fitted(hous.glm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 &lt;- Pr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C41-C207-46BB-AC3C-3CCD0A56ADE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47840"/>
            <a:ext cx="77058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53A-AF0B-476B-B268-F9C91BC30E1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s a multinom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set up to take either a factor or a matrix with k columns as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our case we have frequencies already supplied.  These act as case weigh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ted values” from a multinomial fit are the matrix of probability estimates, with the columns corresponding to the response classes.  Hence in our case they will occur three times ov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 a multinomial model and check that the fitted values agree with our surrogate Poisson estimat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2D5-3D4D-4437-8E41-F315F09584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Negative Binomial distribu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ility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-variance relationshi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ftware: MASS library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lm.nb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(can also be fitted by optimisation functions, 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2276640"/>
          <a:ext cx="7488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488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005360"/>
          <a:ext cx="367200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05360"/>
                    <a:ext cx="3672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925-926C-4F67-BE5A-85592E40BA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mult &lt;- multinom(Sat ~ Infl + Type + Cont, data = housing, weights = Freq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24 (14 variab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1846.76725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747.47761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735.04193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nd(fitted(hous.mult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Medium Hig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0.26   0.27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1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2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&lt;- t(fitted(hous.mult)[seq(3, 72, 3),  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h1 - as.vector(Pr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3.763807e-006  3.948444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7A8-7F13-45FB-9A81-799F289B8F5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portional odds models (V&amp;R p. 204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parametrically economic version of the multinomi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ponse classification is assumed </a:t>
            </a: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ordered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 may be specified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nce the cumulative probabilities conform to a logistic model, with parallelism in the logistic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SS library contains a function polr to fit such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6000" y="3068640"/>
          <a:ext cx="712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712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ED1-2A31-4B93-A55F-5D9731465E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Prop. Odds model and check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 &lt;- polr(Sat ~ Infl+Type+Cont, data = housing, weights = Freq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itted(hous.polr), fitted(hous.mul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0, 1, col=3, lty=4, lwd=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 &lt;- stepAIC(hous.polr, ~.^2, k = log(24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$call$formul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olr(formula = Sat ~ Infl + Type + Cont +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Infl:Type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data = housing, weights = Freq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ith a more parsimonious model the automatic selection procedure uncovers a possible extra term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C21-705F-4AC4-8E08-E8A1FB03A2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476280"/>
          <a:ext cx="741672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4167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248-5F8E-4060-9EFD-0B9BFE5EED97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nesi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mixture of Poissons (GLMM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pound Poiss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Quine data example: both geneses have some credibil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2349360"/>
          <a:ext cx="763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3789360"/>
          <a:ext cx="7632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763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E95-C346-40CD-BEF8-09A449F663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Quine data again: an initial Poisson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po1 &lt;- glm(Days ~ .^4, poisson,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1373.2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1178.451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1173.905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1173.8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5: deviance = 1173.899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quine.po1, cor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all: glm(formula = Days ~ (Eth + Sex + Age + Lrn)^4, family = poisson, data =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Poisson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ull Deviance: 2073.533 on 145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Deviance: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1173.899 on 118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A7E-4F38-45FA-9ED8-12A4794DC9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value for the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uristic: G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Y/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Use the fitted value from the Poisson fit as an estimate of 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Var[G] = 1/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⇒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1/Var[G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Well, it’s worth a tr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 &lt;- 1/var(quine$Days/fitted(quine.po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Courier New"/>
              </a:rPr>
              <a:t>[1] 1.9660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F24-61D2-404E-B91A-25D4C1AB8C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NB fit and tes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 &lt;- glm.nb(Days ~ Eth * Lrn * Age * Sex, data = quine, init.theta = t0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76.105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69.9369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5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67.45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heta( 1 ) = 1.92836 , 2(Ls - Lm) = 167.453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$call$trace &lt;- F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turn off trac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1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ys ~ Eth * Lrn * Age * Sex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095.324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:Sex  2 1092.728 1.403843 0.495631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D01-DCCA-457D-A18E-31B0398689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Backwards elmination to a final model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2 &lt;- update(quine.nb1, . ~ . - Eth:Lrn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2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70.302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66.308 5.973579 0.05044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67.914 2.595925 0.107138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Age:Sex  3 1158.032 2.680925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44347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66.614 6.279241 0.04329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3 &lt;- update(quine.nb2, . ~ . - Eth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3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58.032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53.833 5.768399 0.0558995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58.087 5.038374 0.02479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53.766 5.701942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0577881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612-661D-45B3-883F-58D6ECAC0E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4 &lt;- update(quine.nb3, . ~ . - Lrn:Age:Se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4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53.766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8.505 19.68971 0.000196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  2 1148.119  4.32009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15320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4.271  5.48811 0.019146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5 &lt;- update(quine.nb4, . ~ . - Lrn:Age:E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5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8.119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8.559  5.39070 0.145324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rn:Age  2 1141.940  3.78782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504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4.312 21.14342 0.000098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2.251  9.11539 0.002534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6 &lt;- update(quine.nb5, . ~ . - Lrn:Ag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6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1.940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2.796  5.80638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2141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45.429 18.43993 0.00035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45.395  8.43894 0.003672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4FC-1CCA-4DDF-9CDC-9F010A80D86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7 &lt;- update(quine.nb6, . ~ . - Eth:Ag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7, test = "Chisq", k = log(nrow(quine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ays ~ Eth + Lrn + Age + Sex + Eth:Lrn + Eth:Sex + Lrn:Sex + Age:Sex + Eth:Lrn:Sex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f      AIC      LRT   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&lt;none&gt;    1132.796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ge:Sex  3 1136.464 18.61934 0.000327693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th:Lrn:Sex  1 1140.234 12.42160 0.000424396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check &lt;- glm.nb(Days ~ Sex/(Age + Eth * Lrn), quine); deviance(quine.nb7); deviance(quine.check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quine.nb7) - fitted(quine.check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0.00006764941  0.0000203768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D73-76AD-49C3-AD5F-FF66339E8C0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27:35Z</dcterms:modified>
  <cp:revision>11</cp:revision>
  <dc:subject/>
  <dc:title>S-PLUS, An Introduction to the System</dc:title>
</cp:coreProperties>
</file>